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E5D-4A49-453B-98B5-F4ACDD13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6EC-7D65-41B4-9A1E-85D9EA90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A15E-DCC9-411A-80F9-0EE2F622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A3A-705C-4A5A-BBB5-9E01D66A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2439-488A-40A8-9524-F7A17D12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876D-6B27-4D0C-976A-4953BBA7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6090-2360-4089-8613-FAE9E7EE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2CFC-1EE9-4A1E-8B6A-7A94E1A7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ECD9-A862-49AE-B846-0CF5CDF8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18F5-16B1-46BB-B9F1-ADF87F1C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88D4-BFE6-4803-AE7D-B6E561F1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398-3B84-426E-AAF8-7D407234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0A55-D065-4093-A966-ADC2911F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6809-13B4-443E-A5F5-41477E37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7741-E14B-4F15-A4B8-CB627D30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FE8D-901C-406B-9700-D54955D0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8E31-04E2-4AC5-BC9F-844B60B0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DCF-1F4A-471F-8D2B-EAD4F323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A405-E9A3-4371-A551-E01A445D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D66F-A4D6-44A9-9F51-7DBEA8F3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702-E711-413A-A7E6-47BE47A7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580E-A754-465C-847F-8B12CAE9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D57C-947A-4DDE-BBC2-8C76F3C7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AB0-E40C-4C15-8FA8-E2FB6818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E504-F7B9-4DCB-9C6C-713C5A6EBE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A945-6F91-4561-AA37-A2A202C54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Friday, November 14th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Simplify: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</a:t>
            </a:r>
            <a:r>
              <a:rPr b="0" lang="en-US" sz="5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(Sec</a:t>
            </a:r>
            <a:r>
              <a:rPr b="0" lang="en-US" sz="5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– 1)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More Advanced Simplifying Trig Identities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may involve factoring, fractions, and other algebraic concep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1.  sec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x + tan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x sec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2.  1 – 2sin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x + sin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3.  (Cot</a:t>
            </a:r>
            <a:r>
              <a:rPr b="1" lang="el-GR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Θ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 + Csc</a:t>
            </a:r>
            <a:r>
              <a:rPr b="1" lang="el-GR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Θ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)(Cot</a:t>
            </a:r>
            <a:r>
              <a:rPr b="1" lang="el-GR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Θ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 – Csc</a:t>
            </a:r>
            <a:r>
              <a:rPr b="1" lang="el-GR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Θ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)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286000" y="277920"/>
          <a:ext cx="4952880" cy="17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77920"/>
                    <a:ext cx="4952880" cy="17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ffffcc"/>
                </a:solidFill>
                <a:latin typeface="Times New Roman"/>
              </a:rPr>
              <a:t>Homework:</a:t>
            </a:r>
            <a:br>
              <a:rPr sz="8500"/>
            </a:br>
            <a:r>
              <a:rPr b="1" lang="en-US" sz="8500" spc="-1" strike="noStrike">
                <a:solidFill>
                  <a:srgbClr val="ffffcc"/>
                </a:solidFill>
                <a:latin typeface="Times New Roman"/>
              </a:rPr>
              <a:t>Page 382</a:t>
            </a:r>
            <a:br>
              <a:rPr sz="8500"/>
            </a:br>
            <a:r>
              <a:rPr b="1" lang="en-US" sz="8500" spc="-1" strike="noStrike">
                <a:solidFill>
                  <a:srgbClr val="ffffcc"/>
                </a:solidFill>
                <a:latin typeface="Times New Roman"/>
              </a:rPr>
              <a:t>#63-75</a:t>
            </a:r>
            <a:endParaRPr b="1" lang="en-US" sz="85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Questions from HW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(pg 381 #31-41)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ffffcc"/>
                </a:solidFill>
                <a:latin typeface="Times New Roman"/>
              </a:rPr>
              <a:t>Lesson 5.1</a:t>
            </a:r>
            <a:br>
              <a:rPr sz="8500"/>
            </a:br>
            <a:r>
              <a:rPr b="1" lang="en-US" sz="8500" spc="-1" strike="noStrike">
                <a:solidFill>
                  <a:srgbClr val="ffffcc"/>
                </a:solidFill>
                <a:latin typeface="Times New Roman"/>
              </a:rPr>
              <a:t>part three</a:t>
            </a:r>
            <a:endParaRPr b="1" lang="en-US" sz="85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4:35:54Z</dcterms:created>
  <dc:creator>jnewman</dc:creator>
  <dc:description/>
  <dc:language>en-US</dc:language>
  <cp:lastModifiedBy>abeason</cp:lastModifiedBy>
  <dcterms:modified xsi:type="dcterms:W3CDTF">2008-11-13T17:44:40Z</dcterms:modified>
  <cp:revision>11</cp:revision>
  <dc:subject/>
  <dc:title>Lesson 5.1 part three</dc:title>
</cp:coreProperties>
</file>